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57C-246A-4D0B-8C98-71E63A0C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C1A-1384-42C2-A680-D43F5CCE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041-DF16-4F5A-ABB2-71FE6FFC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0F3-395C-48D9-9E3C-31C1EFAF4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7F1-6EAF-4497-9BDE-DCD2E136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E9F-59B8-4E00-A4F4-2D8BAFC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2CB-319B-44E6-B607-552BE71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1E4-EA42-4428-86BF-26FA9B00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68E-28EE-40B2-B568-49BDCB15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D05-943B-4DBF-B954-277FE1D7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621-C9A4-4839-9B84-EC3E7CB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F9E-C6FF-4899-9D08-8EA66E5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58145-40E9-43AC-8CDA-9B1F31DA331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EAC55-BBC7-4FE2-AD63-9AEECD63F2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avages vs Civilized….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You Decide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pter 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9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Painting their faces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10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Keeping a rescue fire going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1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Killed the pig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2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alibri"/>
              </a:rPr>
              <a:t>creating rules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3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assigning roles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4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x0016_… 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Punching piggy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5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Calibri"/>
              </a:rPr>
              <a:t>Building Shelters</a:t>
            </a: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6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Having an election for a leader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7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Calibri"/>
              </a:rPr>
              <a:t>hunting</a:t>
            </a: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aim #8: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ys acted  ______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they we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100" spc="-1" strike="noStrike">
                <a:solidFill>
                  <a:srgbClr val="ffffff"/>
                </a:solidFill>
                <a:latin typeface="Calibri"/>
              </a:rPr>
              <a:t>Using the conch to call meetings</a:t>
            </a: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7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5:59:44Z</dcterms:created>
  <dc:creator>Teacher</dc:creator>
  <dc:description/>
  <dc:language>en-US</dc:language>
  <cp:lastModifiedBy>Teacher</cp:lastModifiedBy>
  <dcterms:modified xsi:type="dcterms:W3CDTF">2012-04-01T16:17:05Z</dcterms:modified>
  <cp:revision>10</cp:revision>
  <dc:subject/>
  <dc:title>Savages vs Civilized…..  You Decide!</dc:title>
</cp:coreProperties>
</file>